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A24A-D805-4D41-ADB0-7E4F62F82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638-AB64-4F12-A34D-7215AEB3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570-7B5B-4CE9-ABFC-53C38EF9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080-FEBF-492B-B6BF-AFD26F4B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13B-46A9-4ACE-8E7E-14D7AC77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05E1-36E1-400B-B243-0210697E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BEFE-4357-4B37-8140-56687422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170F-5070-442B-92FD-1787D3A9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79A3-57E9-48F2-AD09-D451D718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508D-AC67-420B-9009-88130DDA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76D3-C9CC-48C0-94ED-F32CBC98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6B86-A335-41FC-905E-A32073E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802-D0F5-4E34-A906-2705C330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46FE-CA8C-4612-814C-D22B342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9E0D-18C4-48F6-AB35-74E27AB3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D6CF-44AE-4A97-A3DA-29050D76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79F9-1134-427E-AEB0-314CDDD8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B449-6137-4BDF-8B6F-D0E01059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E0E-2A43-4EF1-95E1-EBC26FE2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ABE-1A5F-4B2E-B8EF-C1CCE7E0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2E7-1959-4223-AED1-4DFF3F5A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9AC-A4B1-482D-BCE9-EF0E85B2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C7B-782A-47B4-B0C7-1FC8CB6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0D7-947F-481E-BB2E-E68E99EE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C52-5C7B-4CDE-AA9D-8717BA63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ABF0-8165-467E-ACDA-3C19BE7D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385F-7055-4C9C-9D2A-B3E72C607F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ELL STRUCTUR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XANNE FERGU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ES COUNTY HIGH SCHO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LGI BOD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YSOS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ENZY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S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3  Lys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7240" y="1600200"/>
            <a:ext cx="9010440" cy="375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MEMBRA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PID BILAY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 P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6  The plasma membrane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072" t="0" r="0" b="0"/>
          <a:stretch/>
        </p:blipFill>
        <p:spPr>
          <a:xfrm>
            <a:off x="291960" y="838080"/>
            <a:ext cx="856008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UCLE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AR ENVEL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MOSO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9  The nucleus and its envelope 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45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BOS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ACH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DOPLASMIC RETICU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U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4:13:54Z</dcterms:created>
  <dc:creator>jrjferguson</dc:creator>
  <dc:description/>
  <dc:language>en-US</dc:language>
  <cp:lastModifiedBy>RomaK</cp:lastModifiedBy>
  <dcterms:modified xsi:type="dcterms:W3CDTF">2015-09-04T10:55:55Z</dcterms:modified>
  <cp:revision>8</cp:revision>
  <dc:subject/>
  <dc:title>CELL STRUCTURES</dc:title>
</cp:coreProperties>
</file>